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015-5436-4EE1-BDD8-35C0D819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1B6-D401-48DC-843D-956D7BE4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209-3A69-4169-B279-7329C1BA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B9E7-2A83-441B-AD55-264D9E8B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E82-4000-4F0C-A43E-2019CB38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6AA-E59D-4EF4-87DE-9A7CDB04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2DA-1A19-4EB3-BB11-67C9A52C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A4A-548E-4FD3-8D02-BD167FE9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B1D-13A2-421F-A892-AE1617C6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D6E-05BA-4F69-BDA0-BE94E241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14E-3C23-4FFC-B7E2-98A209FF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E06-7738-41C5-A32B-6D61A8AB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9357-5939-45F1-B56E-9B03BA223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rt-catalog.ru/artist.php?id_artist=23" TargetMode="External"/><Relationship Id="rId3" Type="http://schemas.openxmlformats.org/officeDocument/2006/relationships/hyperlink" Target="http://www.art-catalog.ru/artist.php?id_artist=2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4941720"/>
            <a:ext cx="28800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ры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иколай Пет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1884 – 19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krumov-010" descr="Зимний вечер. 1919"/>
          <p:cNvPicPr/>
          <p:nvPr/>
        </p:nvPicPr>
        <p:blipFill>
          <a:blip r:embed="rId4"/>
          <a:stretch/>
        </p:blipFill>
        <p:spPr>
          <a:xfrm>
            <a:off x="684360" y="1628640"/>
            <a:ext cx="3744720" cy="3152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1155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дготовка к сочинению по карт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Н.П.Крымова «Зимний вечер»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84360" y="983520"/>
            <a:ext cx="6467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Я ведь давно эту белую книгу чита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этот с картинками вьюги старинный букварь</a:t>
            </a: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Ю. Левита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                                     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 всем, что сделал мас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ой, пе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Любви земной и крас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мир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О да, не все умел 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рисо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о то, что рисовал 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совершенно</a:t>
            </a: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Н.Гумил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А вот как описывает зимний вечер А.С.Пушкин (</a:t>
            </a: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звуковой  (№2) компьютерный  файл):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000" y="980640"/>
            <a:ext cx="4824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Буря мглою небо кро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Вихри снежные крут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То, как зверь, она заво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То заплачет, как дит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То по кровле обветшал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Вдруг соломой зашум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То, как путник запоздал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К нам в окошко застуч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Наша ветхая лачуж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И печальна и тем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Что же ты, моя старуш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Приумолкла у ок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Или бури завывань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Ты, мой друг, утомл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Или дремлешь под жужжань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Goudy Stout"/>
              </a:rPr>
              <a:t>Своего верете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Словарно-орфографическая работ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Художник,  автор  картины,   мастер  кисти (пейзажа), пейзажист, певец русской приро­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Изобразил, запечатлел, создал, воплотил, от­разил, выразил, сумел передать (передает), воспел, воскресил, раскрывает, напоминает, изучает, воспроизводит, использует, добива­ется передачи, достигает, подчеркивает, стремится утвердить, поражает, вложил в карт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Картина, полотно, холст, пейзаж, пейзаж-кар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Написана, посвящена, отражает, воспроизво­дит, напоминает, раскрывает, дает возмож­ность (узнать); вызывает впечатление, пере­дает ощущение (ветра, приближающейся весны и т. д.), вся пронизана (солнечным светом и т. д.), звучит как (гимн красоте), доставляет зрителю (радость), пленяет, пора­жает, воспитывает, принадлежит к числу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4920" y="1125360"/>
            <a:ext cx="83739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На переднем плане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картины  мы видим,  пока­заны.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...начинается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у края холста.   Среди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стоят).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Далеко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простираетс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Рядом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сидит).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Слева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тянется, темнеют...).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Справа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от)... (виднеетс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Вдаль, вдалеке, вдали...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Вдали,   на  заднем   плане  картины...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тянется, виднеются, расстилаются, показался).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На фоне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выделяются, показаны).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Перед (ним)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выделяется (расстилается)...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Возле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растет).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На краю... .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Невдалеке... .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Вверху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парит)...  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В глубине картины.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Над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отдаленными контурами ... виднеется...). 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Поблизости.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Вблизи..    У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стоит)... 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Около...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Вокруг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стоят, виднеются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За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виднеются (извиваются)...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С левой стороны...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Посредин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В углу у .... близ .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мы видим... (виднеется...)...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Кругом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виднеются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По бокам...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На другом конце...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Прямо напротив...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Из...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видно...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Против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него)...    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По сторонам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(дороги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68360" y="189000"/>
            <a:ext cx="529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ОЧКА-ПОМОЩНИК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ПИСАНИЯ СОЧИН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2520" cy="3124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28600" y="4191120"/>
            <a:ext cx="4572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af60a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ЕЙЗАЖИСТ - художник, </a:t>
            </a:r>
            <a:endParaRPr b="0" lang="en-US" sz="1800" spc="1" strike="noStrike">
              <a:ln w="0">
                <a:noFill/>
              </a:ln>
              <a:solidFill>
                <a:srgbClr val="6af60a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af60a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редпочитающий писать </a:t>
            </a:r>
            <a:endParaRPr b="0" lang="en-US" sz="1800" spc="1" strike="noStrike">
              <a:ln w="0">
                <a:noFill/>
              </a:ln>
              <a:solidFill>
                <a:srgbClr val="6af60a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af60a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только природу.</a:t>
            </a:r>
            <a:endParaRPr b="0" lang="en-US" sz="1800" spc="1" strike="noStrike">
              <a:ln w="0">
                <a:noFill/>
              </a:ln>
              <a:solidFill>
                <a:srgbClr val="6af60a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029200" y="3505320"/>
            <a:ext cx="4114800" cy="335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1600200"/>
            <a:ext cx="314640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267080" y="304920"/>
            <a:ext cx="4334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ейзаж -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зображение природы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 искусстве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57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u_krymov_nikolai" descr="Николай Петрович Крымов"/>
          <p:cNvPicPr/>
          <p:nvPr/>
        </p:nvPicPr>
        <p:blipFill>
          <a:blip r:embed="rId2"/>
          <a:stretch/>
        </p:blipFill>
        <p:spPr>
          <a:xfrm>
            <a:off x="179280" y="0"/>
            <a:ext cx="243864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635280" y="115920"/>
            <a:ext cx="39625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ым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колай Петрович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40000" y="314172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(1884-1958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krumov-006" descr="Зимой в провинции. 1933"/>
          <p:cNvPicPr/>
          <p:nvPr/>
        </p:nvPicPr>
        <p:blipFill>
          <a:blip r:embed="rId3"/>
          <a:stretch/>
        </p:blipFill>
        <p:spPr>
          <a:xfrm>
            <a:off x="108000" y="3141720"/>
            <a:ext cx="2057400" cy="1752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861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61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61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61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61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61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861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6236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krumov-002" descr=""/>
          <p:cNvPicPr/>
          <p:nvPr/>
        </p:nvPicPr>
        <p:blipFill>
          <a:blip r:embed="rId4"/>
          <a:stretch/>
        </p:blipFill>
        <p:spPr>
          <a:xfrm>
            <a:off x="2268360" y="429264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7004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krumov-001" descr=""/>
          <p:cNvPicPr/>
          <p:nvPr/>
        </p:nvPicPr>
        <p:blipFill>
          <a:blip r:embed="rId5"/>
          <a:stretch/>
        </p:blipFill>
        <p:spPr>
          <a:xfrm>
            <a:off x="0" y="5229360"/>
            <a:ext cx="220968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7623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krumov-016" descr="Вечер. 19181"/>
          <p:cNvPicPr/>
          <p:nvPr/>
        </p:nvPicPr>
        <p:blipFill>
          <a:blip r:embed="rId6"/>
          <a:stretch/>
        </p:blipFill>
        <p:spPr>
          <a:xfrm>
            <a:off x="6804000" y="3068640"/>
            <a:ext cx="2133720" cy="1828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3392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krumov-012" descr="Закат. 1940"/>
          <p:cNvPicPr/>
          <p:nvPr/>
        </p:nvPicPr>
        <p:blipFill>
          <a:blip r:embed="rId7"/>
          <a:stretch/>
        </p:blipFill>
        <p:spPr>
          <a:xfrm>
            <a:off x="6781680" y="5084640"/>
            <a:ext cx="2362320" cy="1524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861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krumov-010" descr="Зимний вечер. 1919"/>
          <p:cNvPicPr/>
          <p:nvPr/>
        </p:nvPicPr>
        <p:blipFill>
          <a:blip r:embed="rId8"/>
          <a:stretch/>
        </p:blipFill>
        <p:spPr>
          <a:xfrm>
            <a:off x="4500720" y="429264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9280" y="314172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Зимой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 провинции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391520" y="3124080"/>
            <a:ext cx="1328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Вечер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2120" y="5410080"/>
            <a:ext cx="1228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Зима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740720" y="5157720"/>
            <a:ext cx="1143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Закат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38280" y="4419720"/>
            <a:ext cx="14241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негири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00600" y="4419720"/>
            <a:ext cx="163368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Зимний вечер.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КРЫМОВ Николай Петрови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83628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сский художник, представитель символизма, мастер русской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йзажной живопис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дился в Москве 20 апреля (2 мая) 1884 в семье художника П.А.Крымова, писавшего в манере «передвижников». Первоначальную профессиональную подготовку получил у отца. В 1904 поступил в Московское училище живописи, ваяния и зодчества, где сперва занимался на архитектурном отделении, а в 1907–1911 – в пейзажной мастерской А.М.Васнецова. Участник выставки «Голубая роза» (1907), а также выставок «Союза русских художников». Жил в Москве, проводя также (с 1928) значительную часть года в Тарус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же в ранних своих работах примкнул к символизму – в том числе и в качестве графика-оформителя журнала «Золотое руно» (1906–1909). Натурные впечатления в ту пору порой претворялись у него в зыбкое красочное марево, напоминающее скорее гобелен, чем картину ("Под солнцем", 1906, ГРМ). Позднее краски и формы обретают у Крымова все большую материальную предметность, однако природа, чаще всего безлюдная, пребывает не менее поэтической ("Желтый сарай", 1909, ГТГ; "Утро", 1916, Художественный музей, Ярославль). Безыскусная простота типичных среднерусских мотивов соединяется в «классических», тарусских картинах мастера ("Речка", 1926; "У мельницы", 1927; обе в ГТГ) с ясной гармонией композиции и особой системой «общего тона», переводящей ландшафт в сферу чисто эстетического созерцания. Считая сутью живописи не краску, а именно тон (наполняющий цвет светом), Крымов предлагал в качестве идеальной точки отсчета горящую спичку на фоне ярко освещенной солнцем стены. Изложил свои теоретические взгляды в статье "О Левитане" (1938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с значительный вклад в сценографию, оформив во МХАТе "Горячее сердце" (1926) и "Таланты и поклонники" (1933) А.Н.Островского, а также "Унтиловск" Л.М.Леонова (1928). В 1919–1930 много работал и как педагог – в Пречистенском практическом институте, Высших художественно-технических мастерских (Вхутемас) и Московском областном художественном училище памяти 1905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 Крымов в Москве 6 мая 195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092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Крымов. Зимний вечер. 1919"/>
          <p:cNvPicPr/>
          <p:nvPr/>
        </p:nvPicPr>
        <p:blipFill>
          <a:blip r:embed="rId2"/>
          <a:stretch/>
        </p:blipFill>
        <p:spPr>
          <a:xfrm>
            <a:off x="108000" y="189000"/>
            <a:ext cx="3851280" cy="2401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948360" y="5157720"/>
            <a:ext cx="2016360" cy="149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284720" y="189000"/>
            <a:ext cx="4362480" cy="13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тавьте план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исанию картин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4720" y="1773360"/>
            <a:ext cx="425916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труктурные части текста:</a:t>
            </a:r>
            <a:endParaRPr b="0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640" y="2781360"/>
            <a:ext cx="40388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1. Вступление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3357720"/>
            <a:ext cx="815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2. Основная (главная) часть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360" y="3860640"/>
            <a:ext cx="63514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(Описание картины: "по планам"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ли по основным объектам (предметам))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1280" y="4941720"/>
            <a:ext cx="40384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3. Заключение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1280" y="5516640"/>
            <a:ext cx="613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(Работа художника- гимн красоте жизни,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расоте земли, красоте родной природы!)).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Какое настроение вызывает картин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-Каково    общее    впечатление    от пейзажа: грустное или радостное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-Какие чувства, желания рождает пейзаж? Нравится ли вам этот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-Приходилось     ли     вам     наблюдать     нечто подоб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- Каков,  по-вашему, замысел художника?   О  чем  эта   картина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-Почему   она названа «Зимний вечер»? По каким признакам можно определить, что на картине Крымова изображен веч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- Почувствовали ли вы дыхание зимы при взгляде на эту картин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- Удалось ли художнику передать красоту зимнего вечер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71640" y="549360"/>
            <a:ext cx="5372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ЕСЕДА ПО ВОПРОСАМ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9080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786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9900cc"/>
                </a:solidFill>
                <a:latin typeface="Arial"/>
              </a:rPr>
              <a:t>Как    рисунок    переднего    плана раскрывает  основную  мысль художн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Arial"/>
              </a:rPr>
              <a:t>- Что вы можете сказать о людях, изображенных художник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cc"/>
                </a:solidFill>
                <a:latin typeface="Arial"/>
              </a:rPr>
              <a:t>- А  как выглядит снег на  картине  Крымова? 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А вот что говорит о снеге Н.Брау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зве снег, с высот летящий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леса, поля и чащи,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зве он, как мертвый мел,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олько бел, бел, б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есь игольчатый с моро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заре он нежно-роз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н вдали, в тени, в низ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лубой и даже сини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1280" y="188640"/>
            <a:ext cx="8137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- Каким  изобразил художник неб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- Какую роль в воплощении замысла художника играет задний план картин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-Какие   краски   преобладают   на   заднем     плане?  Почему автор дал задний план в темных, холодных тон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- Какой цвет является основным в картине? Почем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- С помощью каких красок художник создает впечатление зимнего веч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- Как построена картина? Как передана глубина в карт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-Что можно сказать о композиции этой картин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- Какие живописные средства использовал художник для создания своего полот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-что чувствуете вы и о чем думаете, когда смотрите на эту картину?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А что, на ваш взгляд,  дорого художнику в природе в этот зимний вечер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7:05:32Z</dcterms:created>
  <dc:creator>XP GAME 2007</dc:creator>
  <dc:description/>
  <dc:language>en-US</dc:language>
  <cp:lastModifiedBy>XP GAME 2007</cp:lastModifiedBy>
  <dcterms:modified xsi:type="dcterms:W3CDTF">2009-01-29T22:13:12Z</dcterms:modified>
  <cp:revision>7</cp:revision>
  <dc:subject/>
  <dc:title>Слайд 1</dc:title>
</cp:coreProperties>
</file>